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chimes.wav" ContentType="audio/x-wav"/>
  <Override PartName="/ppt/media/image1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CAMERA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2CAE-D89E-45FF-ADFB-3A20DF396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03C2-1E7E-4F13-AD43-BD83DA50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3BF-D25E-47AD-9484-9B574C2D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7E1-69A3-4F51-9DAF-81B5E74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AE3-4048-4191-B6A5-B5794B6B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839-29E6-4BEC-BBE6-C8A89185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584-93C6-4F06-9B19-84D0428F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623-7308-4D17-99F2-C6EFFCB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ECDF-CC77-4770-9311-4783C3F4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BA0-2493-4EF7-B56A-621354E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CF5-85A4-400C-A581-D31A5A5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3D8-C637-4CC1-B6BF-A20504C2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6EA-422D-4868-A406-1B897E5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A7F-93BC-4E30-B5A1-9303977B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947-B1CC-4DCD-883D-EA1403B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68F9-8883-43A5-9574-DE3B5BCB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7E4-4F1E-4E30-85B8-73C72DA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A09C-9725-4543-A36A-C80F8F7F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655-D408-4A13-BC80-E993EFFD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95E-EA6D-4A0B-8026-A55CDD8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0A4-917C-45F7-8D41-1622F95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C44-4DB4-4399-8751-26A5053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703-F8B5-4A3B-A1D5-69CA348E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166-F4FC-492E-A700-31D5BD0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85D-15A8-408C-B5CA-DF25F92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3B0-6FE2-412D-ABA1-163DEE9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1E70-024C-4A52-A22F-B18360771E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1D69-ED8F-4314-8C01-47CD243C01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7" descr="ti"/>
          <p:cNvPicPr/>
          <p:nvPr/>
        </p:nvPicPr>
        <p:blipFill>
          <a:blip r:embed="rId1"/>
          <a:stretch/>
        </p:blipFill>
        <p:spPr>
          <a:xfrm>
            <a:off x="2014560" y="1236600"/>
            <a:ext cx="4789440" cy="2114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28">
            <a:hlinkClick r:id="rId2" action="ppaction://hlinksldjump"/>
          </p:cNvPr>
          <p:cNvSpPr/>
          <p:nvPr/>
        </p:nvSpPr>
        <p:spPr>
          <a:xfrm>
            <a:off x="4572000" y="3429000"/>
            <a:ext cx="22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人教新课标初中语文7年级下册\16 社戏\图片\课文插图2-夏夜行船.jpg"/>
          <p:cNvPicPr/>
          <p:nvPr/>
        </p:nvPicPr>
        <p:blipFill>
          <a:blip r:embed="rId1"/>
          <a:stretch/>
        </p:blipFill>
        <p:spPr>
          <a:xfrm>
            <a:off x="642960" y="571680"/>
            <a:ext cx="7997760" cy="6000480"/>
          </a:xfrm>
          <a:prstGeom prst="rect">
            <a:avLst/>
          </a:prstGeom>
          <a:ln w="0">
            <a:noFill/>
          </a:ln>
        </p:spPr>
      </p:pic>
      <p:sp>
        <p:nvSpPr>
          <p:cNvPr id="154" name="矩形 2"/>
          <p:cNvSpPr/>
          <p:nvPr/>
        </p:nvSpPr>
        <p:spPr>
          <a:xfrm>
            <a:off x="92916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夏夜行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:\人教新课标初中语文7年级下册\16 社戏\图片\课文插图3-船头看戏.jpg"/>
          <p:cNvPicPr/>
          <p:nvPr/>
        </p:nvPicPr>
        <p:blipFill>
          <a:blip r:embed="rId1"/>
          <a:stretch/>
        </p:blipFill>
        <p:spPr>
          <a:xfrm>
            <a:off x="642960" y="571680"/>
            <a:ext cx="790272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矩形 2"/>
          <p:cNvSpPr/>
          <p:nvPr/>
        </p:nvSpPr>
        <p:spPr>
          <a:xfrm>
            <a:off x="7237800" y="5977080"/>
            <a:ext cx="103428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船头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1142640" y="685800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教学资源微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xzy888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人教新课标初中语文7年级下册\16 社戏\图片\课文插图4-月下归航.jpg"/>
          <p:cNvPicPr/>
          <p:nvPr/>
        </p:nvPicPr>
        <p:blipFill>
          <a:blip r:embed="rId1"/>
          <a:stretch/>
        </p:blipFill>
        <p:spPr>
          <a:xfrm>
            <a:off x="714240" y="571680"/>
            <a:ext cx="7902720" cy="5929200"/>
          </a:xfrm>
          <a:prstGeom prst="rect">
            <a:avLst/>
          </a:prstGeom>
          <a:ln w="0">
            <a:noFill/>
          </a:ln>
        </p:spPr>
      </p:pic>
      <p:sp>
        <p:nvSpPr>
          <p:cNvPr id="159" name="矩形 2"/>
          <p:cNvSpPr/>
          <p:nvPr/>
        </p:nvSpPr>
        <p:spPr>
          <a:xfrm>
            <a:off x="1000440" y="571680"/>
            <a:ext cx="10342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</a:rPr>
              <a:t>月下归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6"/>
          <p:cNvSpPr/>
          <p:nvPr/>
        </p:nvSpPr>
        <p:spPr>
          <a:xfrm>
            <a:off x="2054160" y="2573280"/>
            <a:ext cx="287280" cy="15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987280" y="2211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极偏僻的小渔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630520" y="3651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”的乐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932360" y="907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283040" y="211284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桥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1262160" y="457416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2071800" y="4643280"/>
            <a:ext cx="287280" cy="151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2914200" y="4443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这里得到优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2890440" y="5667480"/>
            <a:ext cx="18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免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诗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821120" y="1285920"/>
            <a:ext cx="1951200" cy="581400"/>
          </a:xfrm>
          <a:prstGeom prst="rect">
            <a:avLst/>
          </a:prstGeom>
          <a:solidFill>
            <a:srgbClr val="00ff00">
              <a:alpha val="68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3"/>
          <p:cNvSpPr/>
          <p:nvPr/>
        </p:nvSpPr>
        <p:spPr>
          <a:xfrm>
            <a:off x="978840" y="642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黑体"/>
              </a:rPr>
              <a:t>具体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550520" y="762120"/>
            <a:ext cx="4219920" cy="825120"/>
          </a:xfrm>
          <a:prstGeom prst="rect">
            <a:avLst/>
          </a:prstGeom>
          <a:solidFill>
            <a:srgbClr val="00ff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精读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第二部分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5—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31840" y="177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88960" y="1770120"/>
            <a:ext cx="115596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天想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1720" y="2398680"/>
            <a:ext cx="220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心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240000" y="24177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非常着急，心里总惦记着社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41160" y="3281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写作方法及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724640" y="3281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欲扬先抑，先写看不成戏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643400" y="38577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里着急，从而更加突出后来能看戏时的喜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0920" y="464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61680" y="4721400"/>
            <a:ext cx="115596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朋友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93920" y="544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喜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29720" y="54421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聪明，热心，心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745560" y="1050840"/>
            <a:ext cx="329508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行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77880" y="30672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我上船时的心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172920" y="3067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轻松、愉快（与前文的着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571040" y="371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心理形成对比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006200" y="4651200"/>
            <a:ext cx="35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出发时的划船动作及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464000" y="36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400720" y="465120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拔、点开、磕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483920" y="5226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退后、出、架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3132000" y="52261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这样突出了他们划船技术熟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1640" y="205884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朗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4211640" y="205884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注意体会</a:t>
            </a:r>
            <a:r>
              <a:rPr b="1" lang="zh-CN" sz="3200" spc="-1" strike="noStrike">
                <a:solidFill>
                  <a:srgbClr val="170478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170478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此时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324000" y="836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多角度描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见闻感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47680" y="155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视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3573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嗅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7680" y="501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隶书"/>
              </a:rPr>
              <a:t>听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042920" y="1557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月色便朦胧在这水气里。／淡黑起伏的连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9528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807200" y="21337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仿佛是踊跃的铁的兽脊似的，都远远的向船尾跑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679200" y="263700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了。／渐望见依稀的赵庄，／还有几点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685960" y="3573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两岸的豆麦和河底的水草所发散出来的清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092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2350440" y="407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夹杂在水气中扑面的吹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042920" y="5084640"/>
            <a:ext cx="84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而且似乎听到歌吹了，／那声音似乎是横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126440" y="5589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宛转，悠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411840" y="62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复习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366000" y="62064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2150"/>
                </a:solidFill>
                <a:latin typeface="Arial"/>
              </a:rPr>
              <a:t>在上学期学习的一课里，作者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0" y="1125360"/>
            <a:ext cx="67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2150"/>
                </a:solidFill>
                <a:latin typeface="Arial"/>
              </a:rPr>
              <a:t>多种感觉来描写事物，请问是哪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961320" y="112536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春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（春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649160" y="2084400"/>
            <a:ext cx="54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思考：</a:t>
            </a:r>
            <a:r>
              <a:rPr b="1" lang="zh-CN" sz="3200" spc="-1" strike="noStrike">
                <a:solidFill>
                  <a:srgbClr val="13693e"/>
                </a:solidFill>
                <a:latin typeface="Arial"/>
              </a:rPr>
              <a:t>从上述三种感觉描写里，推测“我”月下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693e"/>
                </a:solidFill>
                <a:latin typeface="Arial"/>
              </a:rPr>
              <a:t>船去看社戏时怎样的心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270160" y="3284640"/>
            <a:ext cx="52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478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总体来说，有高兴、迫切和沉静的心理。进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747800" y="3789360"/>
            <a:ext cx="566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步分析，突出“迫切”心理较为明显。起伏的连山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踊跃的铁的兽脊，以动写静，烘托出“我”的急迫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情。听到歌声，料想便来自戏台，心里更是迫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而宛转、悠扬的笛声，使我沉静，反衬出此前着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的心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771840" y="549360"/>
            <a:ext cx="355680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船上看戏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94920" y="141300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看戏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90480" y="20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铁头老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97396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小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6314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28704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小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805860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老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2089080" y="242100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7058160" y="242100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400720" y="2421000"/>
            <a:ext cx="863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3745080" y="2421000"/>
            <a:ext cx="86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94920" y="27082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看戏心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0" y="33577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0478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孩子们不喜欢听唱的戏，喜欢看动作的、好玩的戏。所以，心里有些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0" y="4437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（此题，可以先看完中心再回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0" y="501336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Arial"/>
              </a:rPr>
              <a:t>*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既然社戏不是那么好看，那么作者在结尾为什么还说是好戏，并且还要以社戏为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0" y="692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478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170478"/>
                </a:solidFill>
                <a:latin typeface="Arial"/>
                <a:ea typeface="Arial"/>
              </a:rPr>
              <a:t>·</a:t>
            </a: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小说中心是对热忱、友好、平等、和谐的人际关系的向往。作者表现这个中心，正是通过社戏一步步展开的。单纯的戏虽然不好看，但是伙伴们的美好心灵，农村人与人之间的纯真关系，令人难以忘记。而且，这在“我”看来却是最为重要的。因此，结尾说那是好戏，并且以此为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27480" y="3860640"/>
            <a:ext cx="355680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月下归航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002400" y="4581360"/>
            <a:ext cx="23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478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170478"/>
                </a:solidFill>
                <a:latin typeface="黑体"/>
              </a:rPr>
              <a:t>品位</a:t>
            </a:r>
            <a:r>
              <a:rPr b="1" lang="en-US" sz="3200" spc="-1" strike="noStrike">
                <a:solidFill>
                  <a:srgbClr val="170478"/>
                </a:solidFill>
                <a:latin typeface="黑体"/>
              </a:rPr>
              <a:t>22</a:t>
            </a:r>
            <a:r>
              <a:rPr b="1" lang="zh-CN" sz="3200" spc="-1" strike="noStrike">
                <a:solidFill>
                  <a:srgbClr val="170478"/>
                </a:solidFill>
                <a:latin typeface="黑体"/>
              </a:rPr>
              <a:t>段中的相关词语：回望、缥缈、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478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170478"/>
                </a:solidFill>
                <a:latin typeface="黑体"/>
              </a:rPr>
              <a:t>途中还写了偷罗汉豆吃，这件事能不能删掉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>
            <a:hlinkClick r:id="" action="ppaction://hlinkshowjump?jump=firstslide"/>
          </p:cNvPr>
          <p:cNvSpPr/>
          <p:nvPr/>
        </p:nvSpPr>
        <p:spPr>
          <a:xfrm>
            <a:off x="8461440" y="6381720"/>
            <a:ext cx="682560" cy="476280"/>
          </a:xfrm>
          <a:custGeom>
            <a:avLst/>
            <a:gdLst>
              <a:gd name="textAreaLeft" fmla="*/ 30600 w 682560"/>
              <a:gd name="textAreaRight" fmla="*/ 651960 w 682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8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人教新课标初中语文7年级下册\16 社戏\图片\图片4.jpg"/>
          <p:cNvPicPr/>
          <p:nvPr/>
        </p:nvPicPr>
        <p:blipFill>
          <a:blip r:embed="rId1"/>
          <a:stretch/>
        </p:blipFill>
        <p:spPr>
          <a:xfrm>
            <a:off x="2643120" y="571680"/>
            <a:ext cx="375120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122560" y="476280"/>
            <a:ext cx="392256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第三部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31840" y="192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17160" y="1125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</a:t>
            </a:r>
            <a:r>
              <a:rPr b="1" lang="zh-CN" sz="3200" spc="-1" strike="noStrike">
                <a:solidFill>
                  <a:srgbClr val="5b2150"/>
                </a:solidFill>
                <a:latin typeface="黑体"/>
              </a:rPr>
              <a:t>双喜在全文中共表现出了哪些性格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117160" y="1700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聪明，调皮，能为他人着想，体贴，有责任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206800" y="2611440"/>
            <a:ext cx="292032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第四部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71680" y="3403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835360" y="4444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1547640" y="340344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罗汉豆并不是无上的美味，但那是要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-36360" y="3908520"/>
            <a:ext cx="93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478"/>
                </a:solidFill>
                <a:latin typeface="Arial"/>
              </a:rPr>
              <a:t>伙伴们齐心协力做好的，因此便变成了无法再吃到的好豆。社戏也并不是引人入胜，但看戏时有伙伴的陪伴，因此便变成了无法再看到的好戏。童年不再，快乐、甜蜜，便变成了永恒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24000" y="1757520"/>
            <a:ext cx="87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章的中心情节是什么？围绕这一中心写了哪些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2266920" y="39369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628360" y="408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夏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482920" y="3289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坐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635280" y="36496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赵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295280" y="18208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969840" y="364968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迅哥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5578560" y="292896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938920" y="2641680"/>
            <a:ext cx="2665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戏前波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夏夜行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船头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月夜归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4930920" y="34336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看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51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试试分别从时间、事情、原因角度概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2985480" y="5716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问题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826920" y="112536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除了看戏，还写了什么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900000" y="249408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头：随母亲归省平桥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乐事：钓虾、放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826920" y="494172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结尾：六一公公送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57120" y="428760"/>
            <a:ext cx="861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课文写了这几件事，哪些事详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哪些事略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1200" y="1844640"/>
            <a:ext cx="561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母亲归省小住平桥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81200" y="2487600"/>
            <a:ext cx="5119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虾放牛的乡间生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781200" y="3130560"/>
            <a:ext cx="4905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社戏前的波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781200" y="3809880"/>
            <a:ext cx="579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航去看社戏途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781200" y="4419720"/>
            <a:ext cx="533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赵庄看社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781200" y="5105520"/>
            <a:ext cx="579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社戏后归航偷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785880" y="5791320"/>
            <a:ext cx="4647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一公公送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7608600" y="2057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7684920" y="4343400"/>
            <a:ext cx="592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5572080" y="2143080"/>
            <a:ext cx="2048040" cy="2581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5072040" y="2786040"/>
            <a:ext cx="2471760" cy="201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 flipV="1">
            <a:off x="4357800" y="2666520"/>
            <a:ext cx="310968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 flipV="1">
            <a:off x="4786200" y="2666520"/>
            <a:ext cx="2757600" cy="140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V="1">
            <a:off x="4071960" y="2819160"/>
            <a:ext cx="3471840" cy="19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 flipV="1">
            <a:off x="4500720" y="2971440"/>
            <a:ext cx="3043080" cy="2529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1"/>
          <p:cNvSpPr/>
          <p:nvPr/>
        </p:nvSpPr>
        <p:spPr>
          <a:xfrm flipV="1">
            <a:off x="4071960" y="4952880"/>
            <a:ext cx="3548160" cy="119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50920" y="1128600"/>
            <a:ext cx="85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有的情节详写，有的情节略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26880" y="2652840"/>
            <a:ext cx="8507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因为文章主要写看社戏，所以赵庄看社戏，夜航去看社戏途中，看社戏前的波折，看社戏后归航偷豆详写，其他情节与看社戏关系不大，所以略写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468360" y="10000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BM neco"/>
                <a:ea typeface="微软简行楷"/>
              </a:rPr>
              <a:t>平桥村是一个什么样的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68360" y="2440080"/>
            <a:ext cx="79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归纳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离海不远，偏僻，临河，不满三十家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以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种田、打鱼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为业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只有一个杂货店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8360" y="52484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示：江南水乡，村小，演不起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import36367_2"/>
          <p:cNvPicPr/>
          <p:nvPr/>
        </p:nvPicPr>
        <p:blipFill>
          <a:blip r:embed="rId1"/>
          <a:stretch/>
        </p:blipFill>
        <p:spPr>
          <a:xfrm>
            <a:off x="2500200" y="749160"/>
            <a:ext cx="4357800" cy="3036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0" y="3789360"/>
            <a:ext cx="91440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安桥头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鲁迅的外婆家在安桥头村，他少年时经常随母到外婆家，并与安桥头的农民孩子结下了深厚的友谊。先生的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社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就是以这段生活为素材写就的。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WordArt 3" descr=""/>
          <p:cNvPicPr/>
          <p:nvPr/>
        </p:nvPicPr>
        <p:blipFill>
          <a:blip r:embed="rId1"/>
          <a:stretch/>
        </p:blipFill>
        <p:spPr>
          <a:xfrm>
            <a:off x="1200240" y="628560"/>
            <a:ext cx="6810120" cy="8463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4"/>
          <p:cNvSpPr/>
          <p:nvPr/>
        </p:nvSpPr>
        <p:spPr>
          <a:xfrm>
            <a:off x="714240" y="3643200"/>
            <a:ext cx="357480" cy="2205000"/>
          </a:xfrm>
          <a:custGeom>
            <a:avLst/>
            <a:gdLst>
              <a:gd name="textAreaLeft" fmla="*/ 228600 w 357480"/>
              <a:gd name="textAreaRight" fmla="*/ 357840 w 357480"/>
              <a:gd name="textAreaTop" fmla="*/ 43920 h 2205000"/>
              <a:gd name="textAreaBottom" fmla="*/ 216108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89"/>
                  <a:pt x="10800" y="1378"/>
                </a:cubicBezTo>
                <a:lnTo>
                  <a:pt x="10800" y="9422"/>
                </a:lnTo>
                <a:cubicBezTo>
                  <a:pt x="10800" y="10111"/>
                  <a:pt x="5400" y="10800"/>
                  <a:pt x="0" y="10800"/>
                </a:cubicBezTo>
                <a:cubicBezTo>
                  <a:pt x="5400" y="10800"/>
                  <a:pt x="10800" y="11489"/>
                  <a:pt x="10800" y="12178"/>
                </a:cubicBezTo>
                <a:lnTo>
                  <a:pt x="10800" y="20222"/>
                </a:lnTo>
                <a:cubicBezTo>
                  <a:pt x="10800" y="2091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166760" y="3643200"/>
            <a:ext cx="66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这里是公共的客，可以得到优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166760" y="4500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念“秩秩斯干幽幽南山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534400" y="5357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钓虾放牛，体验到许多乡间生活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57120" y="1714680"/>
            <a:ext cx="842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这样一个偏僻不大眼的小村庄，作者说“在我是乐土”，其中“乐土”既写了平桥村在“我”心中的地位，又写出“我”对平桥村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3"/>
          <p:cNvSpPr txBox="1"/>
          <p:nvPr/>
        </p:nvSpPr>
        <p:spPr>
          <a:xfrm>
            <a:off x="762120" y="1447920"/>
            <a:ext cx="7476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”看不成戏时的心情是怎样的？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46836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盼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1617840" y="3500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266920" y="3141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3417840" y="3500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99420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146560" y="3500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794200" y="3141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猜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6875640" y="35002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54960" y="3141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沮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24000" y="133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社戏的时间在什么季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么知道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76280" y="2940120"/>
            <a:ext cx="8343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春末夏初。因为课文写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墓完毕之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罗汉豆成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岸的豆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写的是春末夏初时的景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1459080"/>
            <a:ext cx="8358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鲁迅，原名周树人，字豫才。浙江绍兴人。伟大的无产阶级文学家、思想家和革命家。中国现代文学的奠基人。代表作有我国现代文学史上第一篇白话小说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狂人日记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，中篇小说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阿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Q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正传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，散文集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朝花夕拾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，小说集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呐喊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，杂文集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坟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《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二心集</a:t>
            </a:r>
            <a:r>
              <a:rPr b="0" lang="en-US" sz="3600" spc="-1" strike="noStrike">
                <a:solidFill>
                  <a:srgbClr val="292929"/>
                </a:solidFill>
                <a:latin typeface="黑体"/>
              </a:rPr>
              <a:t>》</a:t>
            </a:r>
            <a:r>
              <a:rPr b="0" lang="zh-CN" sz="3600" spc="-1" strike="noStrike">
                <a:solidFill>
                  <a:srgbClr val="292929"/>
                </a:solidFill>
                <a:latin typeface="黑体"/>
              </a:rPr>
              <a:t>等。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4680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504720" y="981000"/>
            <a:ext cx="9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楷体_GB2312"/>
              </a:rPr>
              <a:t>作者写夏夜行船是怎样烘托急迫心情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4000" y="2205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夏夜行程是课文的精彩片段。作者写出了起伏的连山如奔兽，以动写静，烘托出我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急迫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826920" y="299736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24000" y="38606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听到歌声，料想发自戏台，心里更是迫切。而宛转、悠扬的笛声，使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我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沉静，反衬出此前着急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611280" y="283860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——</a:t>
            </a:r>
            <a:r>
              <a:rPr b="1" i="1" lang="zh-CN" sz="6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找找看戏过程中“我们 ”的心理和语言描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5"/>
          <p:cNvSpPr txBox="1"/>
          <p:nvPr/>
        </p:nvSpPr>
        <p:spPr>
          <a:xfrm>
            <a:off x="2638440" y="952560"/>
            <a:ext cx="37339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戏好看吗</a:t>
            </a:r>
            <a:endParaRPr b="0" lang="en-US" sz="1800" spc="1" strike="noStrike">
              <a:ln w="19080">
                <a:solidFill>
                  <a:srgbClr val="ffff99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33480" y="98100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作者急切看到的戏好看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0" y="3005280"/>
            <a:ext cx="932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、想看铁头老头翻跟头，但那老头却没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、想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蛇精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跳老虎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等，等了许久都不见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、最怕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老旦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然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老旦终于出了台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并不停地唱着。除正面写出戏不好看，文中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喃喃的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经不住吁吁气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“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打起呵欠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，这些神态描写，也从侧面做了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203640" y="1844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不好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108000" y="12445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写月下归航时，主要写了什么趣事？这时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的心情和去看戏时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08000" y="31161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月下归航时，写了小伙伴去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偷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罗汉豆的趣事。去时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心情很急迫，总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以为船慢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而此时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和小伙伴们偷豆吃豆，心情无比畅快、轻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16000" y="3557520"/>
            <a:ext cx="8748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出景物的什么特征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景物描写对表现文章中心思想起什么作用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3"/>
          <p:cNvSpPr txBox="1"/>
          <p:nvPr/>
        </p:nvSpPr>
        <p:spPr>
          <a:xfrm>
            <a:off x="250920" y="981000"/>
            <a:ext cx="8642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集体朗读“夏夜行船”和“归航偷豆”有关段落，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把表现“我”所见、所闻、所嗅、所感的美句分别摘出来并记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random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08000" y="14810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从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</a:rPr>
              <a:t>嗅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</a:rPr>
              <a:t>触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</a:rPr>
              <a:t>视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</a:rPr>
              <a:t>听觉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、想象，写出江南水乡月夜的特征。这些景物描写，写出了江南水乡夜景的清新，写出小朋友行船之快，也很好地烘托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我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</a:rPr>
              <a:t>急于看到社戏的迫切心情。情景交融，抒发了作者热爱农村的感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1643040" y="13669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看戏途中的所见、所闻、所感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57120" y="293364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  <a:ea typeface="文鼎粗圆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不仅表现了小伙伴们友爱、能干的优秀品质，而且通过我的嗅觉、听觉、视觉、想象四方面对平桥村优美景色的描写，热情地歌颂了美好的自然风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3" descr=""/>
          <p:cNvPicPr/>
          <p:nvPr/>
        </p:nvPicPr>
        <p:blipFill>
          <a:blip r:embed="rId1"/>
          <a:stretch/>
        </p:blipFill>
        <p:spPr>
          <a:xfrm>
            <a:off x="311040" y="622440"/>
            <a:ext cx="3419640" cy="18525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179280" y="4919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是六一公公的豆，偷着吃与他送来吃味道为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50920" y="275436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小伙伴们在什么地方偷？为什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偷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“偷”谁家的？怎样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文鼎特粗圆"/>
                <a:ea typeface="文鼎特粗圆"/>
              </a:rPr>
              <a:t>）他们怎样预防“偷”的秘密被人发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9"/>
          <p:cNvSpPr/>
          <p:nvPr/>
        </p:nvSpPr>
        <p:spPr>
          <a:xfrm>
            <a:off x="285840" y="28584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00"/>
                </a:solidFill>
                <a:latin typeface="Times New Roman"/>
                <a:ea typeface="文鼎特粗圆"/>
              </a:rPr>
              <a:t>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真的，一直到现在，我实在再没有吃到那夜似地好豆，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也不再看到那夜似地好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1032"/>
          <p:cNvSpPr txBox="1"/>
          <p:nvPr/>
        </p:nvSpPr>
        <p:spPr>
          <a:xfrm>
            <a:off x="1116000" y="2635200"/>
            <a:ext cx="61722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其实最令我难忘的是什么？</a:t>
            </a:r>
            <a:endParaRPr b="1" i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23" name="Text Box 1033"/>
          <p:cNvSpPr/>
          <p:nvPr/>
        </p:nvSpPr>
        <p:spPr>
          <a:xfrm>
            <a:off x="0" y="437688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楷体_GB2312"/>
              </a:rPr>
              <a:t>我所难忘的是平桥村的老人孩子那种淳朴、善良、真挚的感情和他们的劳动的本领、办事的能力。再加上特有的农村风光，自由的空气，人与人之间的和谐亲密的关系。这一切都是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楷体_GB2312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楷体_GB2312"/>
              </a:rPr>
              <a:t>童年时代在城镇未曾见到过。在以后的人生路上也很少见到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250920" y="981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那夜的戏，看得叫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呵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破口喃喃的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那夜的豆，第二天吃起来也实在平常。所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夜似的好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夜似的好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是过去那段天真烂漫自由有趣生活的标志，代表了作者对天真烂漫童年的美好回忆，充满了浪漫的理想色彩，相对于成人的无限烦恼，重重束缚的现实生活，表现了对人生理想境界的渴望和追求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46800"/>
            <a:ext cx="1157400" cy="51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人教新课标初中语文7年级下册\16 社戏\图片\鲁迅2.jpg"/>
          <p:cNvPicPr/>
          <p:nvPr/>
        </p:nvPicPr>
        <p:blipFill>
          <a:blip r:embed="rId3"/>
          <a:stretch/>
        </p:blipFill>
        <p:spPr>
          <a:xfrm>
            <a:off x="2500200" y="500040"/>
            <a:ext cx="41594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析双喜的言行，谈谈双喜是怎样的孩子</a:t>
            </a:r>
            <a:r>
              <a:rPr b="1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0" y="1657440"/>
            <a:ext cx="891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⑴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当我看社戏受到波折时，双喜大悟似的提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735600" y="237636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0" y="3313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⑵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当外祖母担心都是孩子们时，双喜大声打包票，理由有三：①船又大，②迅哥儿向来不乱跑；③我们又都是识水性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124000" y="5113440"/>
            <a:ext cx="7020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，考虑周到，善解人意，办事果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⑶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看戏时铁头老生不翻筋斗，“我”很失望，双喜又用“谁肯显本领给白地看”来安慰“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022560" y="1700280"/>
            <a:ext cx="612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双喜大哥哥般的亲切体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0" y="256536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归航偷豆时征求豆主人阿发的意见；双喜以为再多偷，倘给阿发的娘知道是要挨骂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3882240" y="3789360"/>
            <a:ext cx="3530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替他人做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⑸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吃完豆，双喜所虑的是用了八公公船上的盐和柴，并考虑好对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6298560" y="5877000"/>
            <a:ext cx="866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考虑事情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7509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⑹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双喜送我回到家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都回来了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!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那里会错。我原说过写包票的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!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529080" y="1758960"/>
            <a:ext cx="561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做事有始有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0" y="247824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双喜回答六一公公的问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4194000" y="3125880"/>
            <a:ext cx="495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双喜反应灵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0" y="4422600"/>
            <a:ext cx="961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黑体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</a:rPr>
              <a:t>双喜是一个聪明、机灵、善解人意，考虑周到，办事果断的好孩子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7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六一公公的言行，谈谈六一公公是一个什么样的老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8129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⑴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双喜，你们这班小鬼，昨天偷了我的豆了罢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又不肯好好的摘，踏坏了不少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证实双喜他们是否偷了豆，重在指责他们踏坏了庄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89080" y="3397320"/>
            <a:ext cx="946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善良宽厚，爱惜劳动果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42609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⑵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六一公公看见我，便停了楫，笑道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请客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这是应该的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还问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迅哥儿，昨天的戏可好么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豆可中吃呢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?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492360" y="5661000"/>
            <a:ext cx="610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淳朴、好客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028"/>
          <p:cNvSpPr/>
          <p:nvPr/>
        </p:nvSpPr>
        <p:spPr>
          <a:xfrm>
            <a:off x="0" y="1038240"/>
            <a:ext cx="10117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⑶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六一公公夸自己的豆好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我的豆种是粒粒挑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过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29"/>
          <p:cNvSpPr/>
          <p:nvPr/>
        </p:nvSpPr>
        <p:spPr>
          <a:xfrm>
            <a:off x="4176720" y="1973160"/>
            <a:ext cx="4967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现六一公公好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30"/>
          <p:cNvSpPr/>
          <p:nvPr/>
        </p:nvSpPr>
        <p:spPr>
          <a:xfrm>
            <a:off x="0" y="2765520"/>
            <a:ext cx="723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六一公公送豆给母亲和我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31"/>
          <p:cNvSpPr/>
          <p:nvPr/>
        </p:nvSpPr>
        <p:spPr>
          <a:xfrm>
            <a:off x="3373920" y="3557520"/>
            <a:ext cx="4423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表现六一公公淳朴、好客、热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32"/>
          <p:cNvSpPr/>
          <p:nvPr/>
        </p:nvSpPr>
        <p:spPr>
          <a:xfrm>
            <a:off x="34920" y="4494240"/>
            <a:ext cx="9361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</a:rPr>
              <a:t>六一公公是一个宽厚、善良、淳朴、好客、热诚的老人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838080" y="961920"/>
            <a:ext cx="2286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66840" y="241128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本文通过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我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</a:rPr>
              <a:t>与农村孩子看社戏前后故事的叙述，赞美农民和农家孩子淳朴的品质和聪明的才干。表现作者热爱劳动人民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714480" y="961920"/>
            <a:ext cx="2375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中心思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933360"/>
            <a:ext cx="828684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3399"/>
                </a:solidFill>
                <a:latin typeface="黑体"/>
              </a:rPr>
              <a:t>最惹眼的是屹立在庄外临河的空地上的一座戏台，模糊在远处的月夜中，和空间几乎不出界限，我疑心画上见过的仙境，就在这里出现了</a:t>
            </a:r>
            <a:r>
              <a:rPr b="0" lang="zh-CN" sz="2800" spc="-1" strike="noStrike">
                <a:solidFill>
                  <a:srgbClr val="003399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3399"/>
                </a:solidFill>
                <a:latin typeface="黑体"/>
              </a:rPr>
              <a:t>。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黑体"/>
              </a:rPr>
              <a:t>                                                    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3399"/>
                </a:solidFill>
                <a:latin typeface="黑体"/>
              </a:rPr>
              <a:t>鲁迅</a:t>
            </a:r>
            <a:r>
              <a:rPr b="0" lang="en-US" sz="3600" spc="-1" strike="noStrike">
                <a:solidFill>
                  <a:srgbClr val="003399"/>
                </a:solidFill>
                <a:latin typeface="黑体"/>
              </a:rPr>
              <a:t>《</a:t>
            </a:r>
            <a:r>
              <a:rPr b="0" lang="zh-CN" sz="3600" spc="-1" strike="noStrike">
                <a:solidFill>
                  <a:srgbClr val="003399"/>
                </a:solidFill>
                <a:latin typeface="黑体"/>
              </a:rPr>
              <a:t>社戏</a:t>
            </a:r>
            <a:r>
              <a:rPr b="0" lang="en-US" sz="3600" spc="-1" strike="noStrike">
                <a:solidFill>
                  <a:srgbClr val="003399"/>
                </a:solidFill>
                <a:latin typeface="黑体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F:\人教新课标初中语文7年级下册\16 社戏\图片\图片1.jpg"/>
          <p:cNvPicPr/>
          <p:nvPr/>
        </p:nvPicPr>
        <p:blipFill>
          <a:blip r:embed="rId1"/>
          <a:stretch/>
        </p:blipFill>
        <p:spPr>
          <a:xfrm>
            <a:off x="2097000" y="746280"/>
            <a:ext cx="4975200" cy="33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人教新课标初中语文7年级下册\16 社戏\图片\图片5.jpg"/>
          <p:cNvPicPr/>
          <p:nvPr/>
        </p:nvPicPr>
        <p:blipFill>
          <a:blip r:embed="rId1"/>
          <a:stretch/>
        </p:blipFill>
        <p:spPr>
          <a:xfrm>
            <a:off x="446040" y="500040"/>
            <a:ext cx="8412120" cy="5929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500120" y="664380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教学资源微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xzy8886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00040" y="428760"/>
            <a:ext cx="4495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给加点的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981080" y="1266840"/>
            <a:ext cx="1371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26720" y="1343160"/>
            <a:ext cx="142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75920" y="1952640"/>
            <a:ext cx="1090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668560" y="2028960"/>
            <a:ext cx="1829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 d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074320" y="2714760"/>
            <a:ext cx="91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35920" y="2790720"/>
            <a:ext cx="2517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uān d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240280" y="3552840"/>
            <a:ext cx="659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871520" y="3476520"/>
            <a:ext cx="1363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á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905120" y="4238640"/>
            <a:ext cx="2361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u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5499360" y="4238640"/>
            <a:ext cx="221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ù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  z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800000" y="4924440"/>
            <a:ext cx="12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u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5682600" y="5000760"/>
            <a:ext cx="111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721880" y="5686560"/>
            <a:ext cx="268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piāo m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6634080" y="5686560"/>
            <a:ext cx="151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ū g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399960" y="1157400"/>
            <a:ext cx="8458200" cy="5223960"/>
            <a:chOff x="399960" y="1157400"/>
            <a:chExt cx="8458200" cy="5223960"/>
          </a:xfrm>
        </p:grpSpPr>
        <p:sp>
          <p:nvSpPr>
            <p:cNvPr id="116" name="Text Box 18"/>
            <p:cNvSpPr/>
            <p:nvPr/>
          </p:nvSpPr>
          <p:spPr>
            <a:xfrm>
              <a:off x="399960" y="1157400"/>
              <a:ext cx="8458200" cy="5212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归省（     ）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行家（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惮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絮叨（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怠慢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撺掇（  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凫水（ 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潺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歌吹（    ）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蕴藻（ 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家眷（   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皎洁（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漂渺（         ） 纠葛（      ）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9"/>
            <p:cNvSpPr/>
            <p:nvPr/>
          </p:nvSpPr>
          <p:spPr>
            <a:xfrm>
              <a:off x="704880" y="6305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1238400" y="180972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1"/>
            <p:cNvSpPr/>
            <p:nvPr/>
          </p:nvSpPr>
          <p:spPr>
            <a:xfrm>
              <a:off x="628560" y="2571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2"/>
            <p:cNvSpPr/>
            <p:nvPr/>
          </p:nvSpPr>
          <p:spPr>
            <a:xfrm>
              <a:off x="4362480" y="18097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3"/>
            <p:cNvSpPr/>
            <p:nvPr/>
          </p:nvSpPr>
          <p:spPr>
            <a:xfrm>
              <a:off x="4362480" y="2571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4"/>
            <p:cNvSpPr/>
            <p:nvPr/>
          </p:nvSpPr>
          <p:spPr>
            <a:xfrm>
              <a:off x="4896000" y="2571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5"/>
            <p:cNvSpPr/>
            <p:nvPr/>
          </p:nvSpPr>
          <p:spPr>
            <a:xfrm>
              <a:off x="704880" y="3333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704880" y="40957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1238400" y="470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8"/>
            <p:cNvSpPr/>
            <p:nvPr/>
          </p:nvSpPr>
          <p:spPr>
            <a:xfrm>
              <a:off x="1162080" y="54673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9"/>
            <p:cNvSpPr/>
            <p:nvPr/>
          </p:nvSpPr>
          <p:spPr>
            <a:xfrm>
              <a:off x="4362480" y="54673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0"/>
            <p:cNvSpPr/>
            <p:nvPr/>
          </p:nvSpPr>
          <p:spPr>
            <a:xfrm>
              <a:off x="4362480" y="3333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1"/>
            <p:cNvSpPr/>
            <p:nvPr/>
          </p:nvSpPr>
          <p:spPr>
            <a:xfrm>
              <a:off x="4896000" y="33336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2"/>
            <p:cNvSpPr/>
            <p:nvPr/>
          </p:nvSpPr>
          <p:spPr>
            <a:xfrm>
              <a:off x="4362480" y="478152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3"/>
            <p:cNvSpPr/>
            <p:nvPr/>
          </p:nvSpPr>
          <p:spPr>
            <a:xfrm>
              <a:off x="4896000" y="4781520"/>
              <a:ext cx="7596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4"/>
            <p:cNvSpPr/>
            <p:nvPr/>
          </p:nvSpPr>
          <p:spPr>
            <a:xfrm>
              <a:off x="5886360" y="6229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5"/>
            <p:cNvSpPr/>
            <p:nvPr/>
          </p:nvSpPr>
          <p:spPr>
            <a:xfrm>
              <a:off x="5276880" y="6229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6"/>
            <p:cNvSpPr/>
            <p:nvPr/>
          </p:nvSpPr>
          <p:spPr>
            <a:xfrm>
              <a:off x="1162080" y="6305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7"/>
            <p:cNvSpPr/>
            <p:nvPr/>
          </p:nvSpPr>
          <p:spPr>
            <a:xfrm>
              <a:off x="4362480" y="4019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38" descr="t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6600" y="6337440"/>
            <a:ext cx="115740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959760" y="476280"/>
            <a:ext cx="1857240" cy="764280"/>
          </a:xfrm>
          <a:prstGeom prst="rect">
            <a:avLst/>
          </a:prstGeom>
          <a:solidFill>
            <a:srgbClr val="00ff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文章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564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155736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306864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5-30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0" y="3933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1-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0" y="53737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34800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124000" y="1557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简单介绍了平桥村、伙伴、趣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01012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作用：为下文交待了故事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80784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心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996440" y="3068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详细写了看社戏的整个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484360" y="393372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六一公公夸奖“我”，并且送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266840" y="4437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母亲罗汉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35280" y="537372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”称赞那天晚上的好豆和好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F:\人教新课标初中语文7年级下册\16 社戏\图片\课文插图1-戏前波折.jpg"/>
          <p:cNvPicPr/>
          <p:nvPr/>
        </p:nvPicPr>
        <p:blipFill>
          <a:blip r:embed="rId1"/>
          <a:stretch/>
        </p:blipFill>
        <p:spPr>
          <a:xfrm>
            <a:off x="714240" y="500040"/>
            <a:ext cx="7902720" cy="5929200"/>
          </a:xfrm>
          <a:prstGeom prst="rect">
            <a:avLst/>
          </a:prstGeom>
          <a:ln w="0">
            <a:noFill/>
          </a:ln>
        </p:spPr>
      </p:pic>
      <p:sp>
        <p:nvSpPr>
          <p:cNvPr id="152" name="矩形 5"/>
          <p:cNvSpPr/>
          <p:nvPr/>
        </p:nvSpPr>
        <p:spPr>
          <a:xfrm>
            <a:off x="7287120" y="5929200"/>
            <a:ext cx="10342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戏前波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2:32:28Z</dcterms:created>
  <dc:creator>更多资源微信jxzy888666</dc:creator>
  <dc:description/>
  <cp:keywords>更多资源微信jxzy888666</cp:keywords>
  <dc:language>en-US</dc:language>
  <cp:lastModifiedBy>whjy</cp:lastModifiedBy>
  <dcterms:modified xsi:type="dcterms:W3CDTF">2017-12-25T14:39:05Z</dcterms:modified>
  <cp:revision>36</cp:revision>
  <dc:subject/>
  <dc:title>更多资源微信jxzy888666;</dc:title>
</cp:coreProperties>
</file>